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06A-9A67-4F66-B6C6-B57CA56A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923-AA11-4FAB-926A-12CBD7B6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34F-797E-4A36-B820-4E4369E5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25E-E7BE-44D4-BBB6-4B9D21B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9741-651D-4FF5-B1E3-23D2FF5C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74D-BF89-4171-8059-A22866E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9A5F-9821-4ADB-A57E-B3AA92A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C83B-E33D-4B63-805F-800F718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6902-ADB2-4998-B786-A3D8AF32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8A0-3B61-4F36-9F5C-C23DD0D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681A-99D6-4855-9143-6424F6F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AA8-C51F-4570-9364-7BBC768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EE4-593B-4EB3-B739-A54D4AF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763C-007B-4A4B-950A-6A946D6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AD7B-0850-4B5C-AAB7-82954320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8D59-F1DD-4B7D-A218-6201487D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84BE-988D-485D-9CCD-25A8E51D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CC8-5921-4321-B828-332941AD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1BB-16CE-4222-8366-D00FF3D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5C-6681-45DA-8070-B06CA693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E3D-F304-4EB5-9566-B329E08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0CD-0369-4B19-BEE4-96FA604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0FF-1803-4668-9EA0-5EDABB4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FD5-C098-4C1F-8FF5-4F193D3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767-C5B4-47C5-9031-D417B7F30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E437-EFE4-4171-BFC5-D1F7BB8D9D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 Flow: Here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, and Back A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la Guha, Jerry Qi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ja Putic, 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/13/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E 686: SoC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top level HDL withou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necessary I/O into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DD, VSS, Corners, Scan Enable, 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synthesize this new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54400"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ynthesis will insert scan ch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33600" indent="-6336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 proper scan.def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he Scan and Test enable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specific chains or l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L compiler auto creat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FT rule che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s whether flo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can ready – generally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mmand fixes errors? – Y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x_dft_violations -async_set_reset -test_mode 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Detail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define details of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, min number (for auto-gen.)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TSMC, maps all flops a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tell RTL compiler to reroute the scan and test enable signals to these fl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z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scan conn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2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vel, scan inserted, ne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def file containing scan chain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- AutoChain_17_seg1_CLK_ris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START PIN DFT_sdi_1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+ FLOATIN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1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2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3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isel][4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0][pol] ( IN SI ) ( OUT Q 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System"/>
              </a:rPr>
              <a:t>CoreInst/leon1/mcore0/ioport0/r_reg[iconf][1][edge] ( IN SI ) ( OUT Q )</a:t>
            </a: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stem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ed top netlist and .def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62784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66120" y="62784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-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2" descr=""/>
          <p:cNvPicPr/>
          <p:nvPr/>
        </p:nvPicPr>
        <p:blipFill>
          <a:blip r:embed="rId1"/>
          <a:stretch/>
        </p:blipFill>
        <p:spPr>
          <a:xfrm>
            <a:off x="228600" y="2697120"/>
            <a:ext cx="4191120" cy="3571920"/>
          </a:xfrm>
          <a:prstGeom prst="rect">
            <a:avLst/>
          </a:prstGeom>
          <a:ln w="0">
            <a:noFill/>
          </a:ln>
        </p:spPr>
      </p:pic>
      <p:pic>
        <p:nvPicPr>
          <p:cNvPr id="131" name="3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2670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 in Encoun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d manually fir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ed to show scan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also work with Jerry’s .tcl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th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outing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4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11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selectively scan y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verify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needs library files in .v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means cannot generate test v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not implemented Conform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Equivalence Che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manual constraints in the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Jerry and Jiajing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gen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d memories for SoCKs in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wrapper necessary, HDL files had exactly the correct inputs and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ck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fro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 end 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verilog netl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tested wishbone co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can ch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28954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 / Software co-design env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 SPARC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BA 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oftware that uses custom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, test bench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C compiler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ontribution to So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d and verified wishbone 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ng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front and back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in TSMC .18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ed scan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fo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m C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Pad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Inse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and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ded on TSMC .18 um for p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SMC library also provides scan fl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Artisan lib – No physical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library also allowed for easy porting of the generic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eneric library is similar to TS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ed HDL files to match the .lib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was a manual change to the HD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removed one entire file from syn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ed to add VDD, VSS, corner, and scan pads to the top verilog net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ynthesize pads with no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d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d the .io file for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io file necessary for proper pad 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ad42EM_A_21 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Cur 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dd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Orient: R2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Pad: RingInst/PVss2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1" descr=""/>
          <p:cNvPicPr/>
          <p:nvPr/>
        </p:nvPicPr>
        <p:blipFill>
          <a:blip r:embed="rId1"/>
          <a:stretch/>
        </p:blipFill>
        <p:spPr>
          <a:xfrm>
            <a:off x="4919760" y="3087720"/>
            <a:ext cx="40719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 Ch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n Chain – Provides ability to test sequential log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a shift register in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registers as the shifter re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traightforward to impl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RTL compl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2:39:16Z</dcterms:created>
  <dc:creator> HPLP</dc:creator>
  <dc:description/>
  <dc:language>en-US</dc:language>
  <cp:lastModifiedBy> HPLP</cp:lastModifiedBy>
  <dcterms:modified xsi:type="dcterms:W3CDTF">2006-12-15T19:17:29Z</dcterms:modified>
  <cp:revision>11</cp:revision>
  <dc:subject/>
  <dc:title>SoCKs Flow: Here,  There, and Back Again</dc:title>
</cp:coreProperties>
</file>